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42.gif" ContentType="image/gif"/>
  <Override PartName="/ppt/media/ricochet.wav" ContentType="audio/x-wav"/>
  <Override PartName="/ppt/media/image40.wmf" ContentType="image/x-wmf"/>
  <Override PartName="/ppt/media/cashreg.wav" ContentType="audio/x-wav"/>
  <Override PartName="/ppt/media/telephone.wav" ContentType="audio/x-wav"/>
  <Override PartName="/ppt/media/image20.wmf" ContentType="image/x-wmf"/>
  <Override PartName="/ppt/media/driveby.wav" ContentType="audio/x-wav"/>
  <Override PartName="/ppt/media/image34.gif" ContentType="image/gif"/>
  <Override PartName="/ppt/media/image30.wmf" ContentType="image/x-wmf"/>
  <Override PartName="/ppt/media/projctor.wav" ContentType="audio/x-wav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wmf" ContentType="image/x-wmf"/>
  <Override PartName="/ppt/media/image32.wmf" ContentType="image/x-wmf"/>
  <Override PartName="/ppt/media/image31.wmf" ContentType="image/x-wmf"/>
  <Override PartName="/ppt/media/image41.gif" ContentType="image/gif"/>
  <Override PartName="/ppt/media/oldcarhorn.wav" ContentType="audio/x-wav"/>
  <Override PartName="/ppt/media/EXPLODE.WAV" ContentType="audio/x-wav"/>
  <Override PartName="/ppt/media/image1.wmf" ContentType="image/x-wmf"/>
  <Override PartName="/ppt/media/image13.wmf" ContentType="image/x-wmf"/>
  <Override PartName="/ppt/media/image28.wmf" ContentType="image/x-wmf"/>
  <Override PartName="/ppt/media/voltage.wav" ContentType="audio/x-wav"/>
  <Override PartName="/ppt/media/image43.wmf" ContentType="image/x-wmf"/>
  <Override PartName="/ppt/media/image56.wmf" ContentType="image/x-wmf"/>
  <Override PartName="/ppt/media/image44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zipdn102.wav" ContentType="audio/x-wav"/>
  <Override PartName="/ppt/media/image46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CHIMES.WAV" ContentType="audio/x-wav"/>
  <Override PartName="/ppt/media/image49.wmf" ContentType="image/x-wmf"/>
  <Override PartName="/ppt/media/image51.wmf" ContentType="image/x-wmf"/>
  <Override PartName="/ppt/media/image50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10.wmf" ContentType="image/x-wmf"/>
  <Override PartName="/ppt/media/image45.wmf" ContentType="image/x-wmf"/>
  <Override PartName="/ppt/media/carbrake.wav" ContentType="audio/x-wav"/>
  <Override PartName="/ppt/media/image15.wmf" ContentType="image/x-wmf"/>
  <Override PartName="/ppt/media/image3.wmf" ContentType="image/x-wmf"/>
  <Override PartName="/ppt/media/image33.wmf" ContentType="image/x-wmf"/>
  <Override PartName="/ppt/media/image57.gif" ContentType="image/gif"/>
  <Override PartName="/ppt/media/image17.wmf" ContentType="image/x-wmf"/>
  <Override PartName="/ppt/media/image5.wmf" ContentType="image/x-wmf"/>
  <Override PartName="/ppt/media/image35.wmf" ContentType="image/x-wmf"/>
  <Override PartName="/ppt/media/spacesound2.wav" ContentType="audio/x-wav"/>
  <Override PartName="/ppt/media/suction.wav" ContentType="audio/x-wav"/>
  <Override PartName="/ppt/media/image24.wmf" ContentType="image/x-wmf"/>
  <Override PartName="/ppt/media/image12.wmf" ContentType="image/x-wmf"/>
  <Override PartName="/ppt/media/hzipup01.wav" ContentType="audio/x-wav"/>
  <Override PartName="/ppt/media/image36.wmf" ContentType="image/x-wmf"/>
  <Override PartName="/ppt/media/gunshot.wav" ContentType="audio/x-wav"/>
  <Override PartName="/ppt/media/image25.wmf" ContentType="image/x-wmf"/>
  <Override PartName="/ppt/media/image6.wmf" ContentType="image/x-wmf"/>
  <Override PartName="/ppt/media/image18.wmf" ContentType="image/x-wmf"/>
  <Override PartName="/ppt/media/image37.wmf" ContentType="image/x-wmf"/>
  <Override PartName="/ppt/media/spship04.wav" ContentType="audio/x-wav"/>
  <Override PartName="/ppt/media/image8.wmf" ContentType="image/x-wmf"/>
  <Override PartName="/ppt/media/image38.wmf" ContentType="image/x-wmf"/>
  <Override PartName="/ppt/media/image9.wmf" ContentType="image/x-wmf"/>
  <Override PartName="/ppt/media/wind.wav" ContentType="audio/x-wav"/>
  <Override PartName="/ppt/media/image39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A7A-8AE9-4EF9-B927-C30A95CE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27C2-2AFB-48D8-AEEC-549CF023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511-CD85-4CF6-AE80-A576113E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EB6-AD8A-4B3F-8583-743A1355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DB1-EE31-48F6-AB4D-F471C78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271-37E5-4ABE-88A3-EF0774F4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887-AA4B-4369-AD0E-031677DF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9D4-61D7-444C-AFF8-1E3E4E6D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E86-393C-4087-8077-9FAF512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D2C-D755-4C53-ACF4-E5719D4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593-2747-4CBF-B102-12120052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837-10A8-436D-9938-BB5B1C6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1417-64A8-42DD-B5BF-E2ED2B257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carbrake.wav"/><Relationship Id="rId31" Type="http://schemas.openxmlformats.org/officeDocument/2006/relationships/audio" Target="../media/projctor.wav"/><Relationship Id="rId32" Type="http://schemas.openxmlformats.org/officeDocument/2006/relationships/audio" Target="../media/driveby.wav"/><Relationship Id="rId33" Type="http://schemas.openxmlformats.org/officeDocument/2006/relationships/audio" Target="../media/LASER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projctor.wav"/><Relationship Id="rId37" Type="http://schemas.openxmlformats.org/officeDocument/2006/relationships/audio" Target="../media/projctor.wav"/><Relationship Id="rId38" Type="http://schemas.openxmlformats.org/officeDocument/2006/relationships/audio" Target="../media/projctor.wav"/><Relationship Id="rId39" Type="http://schemas.openxmlformats.org/officeDocument/2006/relationships/audio" Target="../media/projctor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EXPLODE.WAV"/><Relationship Id="rId44" Type="http://schemas.openxmlformats.org/officeDocument/2006/relationships/audio" Target="../media/oldcarhorn.wav"/><Relationship Id="rId4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image" Target="../media/image57.gif"/><Relationship Id="rId14" Type="http://schemas.openxmlformats.org/officeDocument/2006/relationships/image" Target="../media/image41.gif"/><Relationship Id="rId15" Type="http://schemas.openxmlformats.org/officeDocument/2006/relationships/audio" Target="../media/carbrake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ricochet.wav"/><Relationship Id="rId22" Type="http://schemas.openxmlformats.org/officeDocument/2006/relationships/audio" Target="../media/gunshot.wav"/><Relationship Id="rId23" Type="http://schemas.openxmlformats.org/officeDocument/2006/relationships/audio" Target="../media/ricochet.wav"/><Relationship Id="rId24" Type="http://schemas.openxmlformats.org/officeDocument/2006/relationships/audio" Target="../media/projctor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projctor.wav"/><Relationship Id="rId30" Type="http://schemas.openxmlformats.org/officeDocument/2006/relationships/audio" Target="../media/spacesound2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5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suction.wav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voltage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wind.wav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hzipup01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EXPLODE.WAV"/><Relationship Id="rId31" Type="http://schemas.openxmlformats.org/officeDocument/2006/relationships/audio" Target="../media/telephone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9.wmf"/><Relationship Id="rId18" Type="http://schemas.openxmlformats.org/officeDocument/2006/relationships/image" Target="../media/image41.gif"/><Relationship Id="rId19" Type="http://schemas.openxmlformats.org/officeDocument/2006/relationships/audio" Target="../media/CHIMES.WAV"/><Relationship Id="rId20" Type="http://schemas.openxmlformats.org/officeDocument/2006/relationships/audio" Target="../media/cashreg.wav"/><Relationship Id="rId21" Type="http://schemas.openxmlformats.org/officeDocument/2006/relationships/audio" Target="../media/projctor.wav"/><Relationship Id="rId22" Type="http://schemas.openxmlformats.org/officeDocument/2006/relationships/audio" Target="../media/LASE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gunshot.wav"/><Relationship Id="rId26" Type="http://schemas.openxmlformats.org/officeDocument/2006/relationships/audio" Target="../media/ricochet.wav"/><Relationship Id="rId27" Type="http://schemas.openxmlformats.org/officeDocument/2006/relationships/audio" Target="../media/gunshot.wav"/><Relationship Id="rId28" Type="http://schemas.openxmlformats.org/officeDocument/2006/relationships/audio" Target="../media/ricochet.wav"/><Relationship Id="rId29" Type="http://schemas.openxmlformats.org/officeDocument/2006/relationships/audio" Target="../media/projctor.wav"/><Relationship Id="rId30" Type="http://schemas.openxmlformats.org/officeDocument/2006/relationships/audio" Target="../media/gunshot.wav"/><Relationship Id="rId31" Type="http://schemas.openxmlformats.org/officeDocument/2006/relationships/audio" Target="../media/gunshot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projctor.wav"/><Relationship Id="rId35" Type="http://schemas.openxmlformats.org/officeDocument/2006/relationships/audio" Target="../media/spacesound2.wav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image" Target="../media/image41.gif"/><Relationship Id="rId13" Type="http://schemas.openxmlformats.org/officeDocument/2006/relationships/audio" Target="../media/cashreg.wav"/><Relationship Id="rId14" Type="http://schemas.openxmlformats.org/officeDocument/2006/relationships/audio" Target="../media/projctor.wav"/><Relationship Id="rId15" Type="http://schemas.openxmlformats.org/officeDocument/2006/relationships/audio" Target="../media/LASE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spship04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image" Target="../media/image41.gif"/><Relationship Id="rId18" Type="http://schemas.openxmlformats.org/officeDocument/2006/relationships/audio" Target="../media/carbrake.wav"/><Relationship Id="rId19" Type="http://schemas.openxmlformats.org/officeDocument/2006/relationships/audio" Target="../media/carbrake.wav"/><Relationship Id="rId20" Type="http://schemas.openxmlformats.org/officeDocument/2006/relationships/audio" Target="../media/projctor.wav"/><Relationship Id="rId21" Type="http://schemas.openxmlformats.org/officeDocument/2006/relationships/audio" Target="../media/driveby.wav"/><Relationship Id="rId22" Type="http://schemas.openxmlformats.org/officeDocument/2006/relationships/audio" Target="../media/LASER.WAV"/><Relationship Id="rId23" Type="http://schemas.openxmlformats.org/officeDocument/2006/relationships/audio" Target="../media/driveby.wav"/><Relationship Id="rId24" Type="http://schemas.openxmlformats.org/officeDocument/2006/relationships/audio" Target="../media/LASER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zipdn102.wav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44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224320" y="3962520"/>
          <a:ext cx="61776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4320" y="3962520"/>
                    <a:ext cx="6177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95880" y="4191120"/>
          <a:ext cx="94320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4191120"/>
                    <a:ext cx="9432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57600" y="3352680"/>
          <a:ext cx="348300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3352680"/>
                    <a:ext cx="34830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410080" y="4572000"/>
          <a:ext cx="397080" cy="522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10080" y="457200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267080" y="5334120"/>
          <a:ext cx="104796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67080" y="5334120"/>
                    <a:ext cx="1047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311800" y="5207040"/>
          <a:ext cx="785880" cy="619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11800" y="5207040"/>
                    <a:ext cx="785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017960" y="2895480"/>
          <a:ext cx="274320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2895480"/>
                    <a:ext cx="2743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A person who weighs 160 pounds on Earth weighs 139 pounds on Venus.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9810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. A person weighs 195 pounds on Earth. Use the model to estimate that person’s weight on Venu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62320" y="2895480"/>
                <a:ext cx="1657080" cy="15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324480" y="2819520"/>
                <a:ext cx="1600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25" name=""/>
          <p:cNvGraphicFramePr/>
          <p:nvPr/>
        </p:nvGraphicFramePr>
        <p:xfrm>
          <a:off x="3664080" y="3352680"/>
          <a:ext cx="108900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4080" y="3352680"/>
                    <a:ext cx="10890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 flipV="1">
            <a:off x="5237280" y="3809520"/>
            <a:ext cx="8380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989760" y="304812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313240" y="312372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66080" y="3809520"/>
            <a:ext cx="8380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133720" y="4343400"/>
          <a:ext cx="7016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701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flipV="1">
            <a:off x="2570040" y="3962520"/>
            <a:ext cx="8384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637080" y="350532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095720" y="2971800"/>
          <a:ext cx="70020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95720" y="2971800"/>
                    <a:ext cx="70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4987800" y="4648320"/>
          <a:ext cx="1108080" cy="6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87800" y="4648320"/>
                    <a:ext cx="1108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505320" y="4267080"/>
          <a:ext cx="1473120" cy="1609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267080"/>
                    <a:ext cx="14731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0" y="586728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person’s weight on Venus would be </a:t>
            </a:r>
            <a:r>
              <a:rPr b="1" lang="en-US" sz="3000" spc="-1" strike="noStrike">
                <a:solidFill>
                  <a:srgbClr val="cc3300"/>
                </a:solidFill>
                <a:latin typeface="Times New Roman"/>
              </a:rPr>
              <a:t>169.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ound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3"/>
          <a:stretch/>
        </p:blipFill>
        <p:spPr>
          <a:xfrm>
            <a:off x="7162920" y="4495680"/>
            <a:ext cx="1814400" cy="23623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4"/>
          <a:stretch/>
        </p:blipFill>
        <p:spPr>
          <a:xfrm>
            <a:off x="228600" y="2971800"/>
            <a:ext cx="18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spaces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78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334120" y="3962520"/>
          <a:ext cx="39672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9625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019920" y="3733920"/>
          <a:ext cx="1100160" cy="15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3733920"/>
                    <a:ext cx="11001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727440" y="3352680"/>
          <a:ext cx="334152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27440" y="3352680"/>
                    <a:ext cx="33415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334120" y="4648320"/>
          <a:ext cx="39672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46483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5875200"/>
          <a:ext cx="104760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875200"/>
                    <a:ext cx="104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257800" y="5257800"/>
          <a:ext cx="1047600" cy="160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57800" y="5257800"/>
                    <a:ext cx="1047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112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157720" y="3962520"/>
          <a:ext cx="74952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57720" y="3962520"/>
                    <a:ext cx="7495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097680" y="4222800"/>
          <a:ext cx="94284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7680" y="4222800"/>
                    <a:ext cx="942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657600" y="3352680"/>
          <a:ext cx="400068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3352680"/>
                    <a:ext cx="4000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157720" y="4648320"/>
          <a:ext cx="74952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57720" y="4648320"/>
                    <a:ext cx="7495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343400" y="5875200"/>
          <a:ext cx="104760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875200"/>
                    <a:ext cx="104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334120" y="5867280"/>
          <a:ext cx="523800" cy="517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5867280"/>
                    <a:ext cx="523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146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157720" y="3962520"/>
          <a:ext cx="74952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57720" y="3962520"/>
                    <a:ext cx="7495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943600" y="3733920"/>
          <a:ext cx="1519200" cy="15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3733920"/>
                    <a:ext cx="151920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681360" y="3352680"/>
          <a:ext cx="395280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81360" y="3352680"/>
                    <a:ext cx="39528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257800" y="4648320"/>
          <a:ext cx="66024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648320"/>
                    <a:ext cx="6602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43400" y="5791320"/>
          <a:ext cx="104760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791320"/>
                    <a:ext cx="1047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257800" y="5254560"/>
          <a:ext cx="1414440" cy="1603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57800" y="5254560"/>
                    <a:ext cx="1414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180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334120" y="3962520"/>
          <a:ext cx="44136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962520"/>
                    <a:ext cx="4413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6205680" y="4222800"/>
          <a:ext cx="99540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05680" y="422280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846600" y="3352680"/>
          <a:ext cx="362268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46600" y="3352680"/>
                    <a:ext cx="3622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35480" y="4648320"/>
          <a:ext cx="70488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35480" y="4648320"/>
                    <a:ext cx="7048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343400" y="5791320"/>
          <a:ext cx="104760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791320"/>
                    <a:ext cx="10476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410080" y="5638680"/>
          <a:ext cx="838440" cy="621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10080" y="5638680"/>
                    <a:ext cx="8384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4191120" y="3809880"/>
          <a:ext cx="193032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19303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04920" y="1371600"/>
            <a:ext cx="8534160" cy="914400"/>
            <a:chOff x="304920" y="1371600"/>
            <a:chExt cx="8534160" cy="914400"/>
          </a:xfrm>
        </p:grpSpPr>
        <p:sp>
          <p:nvSpPr>
            <p:cNvPr id="214" name=""/>
            <p:cNvSpPr/>
            <p:nvPr/>
          </p:nvSpPr>
          <p:spPr>
            <a:xfrm>
              <a:off x="304920" y="137160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72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 Direct Variatio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1-6, the variable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vary directly. Use the given values to write an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3352680"/>
          <a:ext cx="160020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352680"/>
                    <a:ext cx="1600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143000" y="464832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4832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34120" y="3962520"/>
          <a:ext cx="441360" cy="52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962520"/>
                    <a:ext cx="4413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943600" y="3733920"/>
          <a:ext cx="1519200" cy="15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3733920"/>
                    <a:ext cx="151920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80880" y="137160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13716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19320" y="4038480"/>
          <a:ext cx="450720" cy="4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038480"/>
                    <a:ext cx="450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4038480"/>
          <a:ext cx="452520" cy="444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4038480"/>
                    <a:ext cx="452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066680" y="4038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03848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4343400"/>
          <a:ext cx="968400" cy="134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3880" y="4343400"/>
                    <a:ext cx="968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659040" y="3352680"/>
          <a:ext cx="3999240" cy="70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9040" y="3352680"/>
                    <a:ext cx="39992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081760" y="4648320"/>
          <a:ext cx="1012680" cy="52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81760" y="4648320"/>
                    <a:ext cx="10126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343400" y="5867280"/>
          <a:ext cx="1047600" cy="671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3400" y="5867280"/>
                    <a:ext cx="1047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334120" y="5254560"/>
          <a:ext cx="1414440" cy="1603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4120" y="5254560"/>
                    <a:ext cx="1414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1600200" cy="2666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191120" y="2971800"/>
          <a:ext cx="254952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971800"/>
                    <a:ext cx="2549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809880" y="3352680"/>
          <a:ext cx="98928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352680"/>
                    <a:ext cx="9892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743200" y="2948040"/>
                <a:ext cx="1541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"/>
          <p:cNvGraphicFramePr/>
          <p:nvPr/>
        </p:nvGraphicFramePr>
        <p:xfrm>
          <a:off x="2286000" y="3886200"/>
          <a:ext cx="3952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38862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648320" y="4572000"/>
          <a:ext cx="114588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48320" y="4572000"/>
                    <a:ext cx="114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380880" y="5486400"/>
            <a:ext cx="6248520" cy="1371600"/>
            <a:chOff x="380880" y="5486400"/>
            <a:chExt cx="6248520" cy="1371600"/>
          </a:xfrm>
        </p:grpSpPr>
        <p:sp>
          <p:nvSpPr>
            <p:cNvPr id="258" name=""/>
            <p:cNvSpPr/>
            <p:nvPr/>
          </p:nvSpPr>
          <p:spPr>
            <a:xfrm>
              <a:off x="380880" y="5486400"/>
              <a:ext cx="624852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The person’s weight on Mars would be             pounds.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9" name=""/>
            <p:cNvGraphicFramePr/>
            <p:nvPr/>
          </p:nvGraphicFramePr>
          <p:xfrm>
            <a:off x="2666880" y="5791320"/>
            <a:ext cx="749520" cy="10666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5791320"/>
                      <a:ext cx="749520" cy="10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1" name=""/>
          <p:cNvGrpSpPr/>
          <p:nvPr/>
        </p:nvGrpSpPr>
        <p:grpSpPr>
          <a:xfrm>
            <a:off x="0" y="1143000"/>
            <a:ext cx="8839080" cy="1968840"/>
            <a:chOff x="0" y="1143000"/>
            <a:chExt cx="8839080" cy="1968840"/>
          </a:xfrm>
        </p:grpSpPr>
        <p:sp>
          <p:nvSpPr>
            <p:cNvPr id="262" name=""/>
            <p:cNvSpPr/>
            <p:nvPr/>
          </p:nvSpPr>
          <p:spPr>
            <a:xfrm>
              <a:off x="0" y="1295280"/>
              <a:ext cx="8839080" cy="18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7. Use the ratio model                        to estimate a person’s weight on Mars if the person weighs 120 pounds on Earth. </a:t>
              </a:r>
              <a:r>
                <a:rPr b="1" i="1" lang="en-US" sz="2900" spc="-1" strike="noStrike">
                  <a:solidFill>
                    <a:srgbClr val="3333cc"/>
                  </a:solidFill>
                  <a:latin typeface="Times New Roman"/>
                </a:rPr>
                <a:t>                       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3657600" y="1143000"/>
            <a:ext cx="2057400" cy="108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657600" y="1143000"/>
                      <a:ext cx="205740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324480" y="2971800"/>
                <a:ext cx="14590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 flipV="1">
            <a:off x="2819520" y="388620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733920" y="4191120"/>
          <a:ext cx="1011240" cy="1346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33920" y="4191120"/>
                    <a:ext cx="101124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 flipV="1">
            <a:off x="3886200" y="342900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475160" y="2895480"/>
          <a:ext cx="438120" cy="520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475160" y="2895480"/>
                    <a:ext cx="4381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 flipV="1">
            <a:off x="5181480" y="380952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934320" y="304812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257800" y="3123720"/>
            <a:ext cx="83808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010280" y="380952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8"/>
          <a:stretch/>
        </p:blipFill>
        <p:spPr>
          <a:xfrm>
            <a:off x="228600" y="2971800"/>
            <a:ext cx="18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spaces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715080" y="3524400"/>
            <a:ext cx="2428920" cy="33336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191120" y="2971800"/>
          <a:ext cx="2549520" cy="134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971800"/>
                    <a:ext cx="2549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6137280" y="3352680"/>
          <a:ext cx="75420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37280" y="3352680"/>
                    <a:ext cx="7542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419720" y="4191120"/>
          <a:ext cx="1719000" cy="134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9720" y="4191120"/>
                    <a:ext cx="17190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0" y="5562720"/>
            <a:ext cx="63244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person’s weight on Earth would be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163.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pound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0" y="1143000"/>
            <a:ext cx="8839080" cy="1968840"/>
            <a:chOff x="0" y="1143000"/>
            <a:chExt cx="8839080" cy="1968840"/>
          </a:xfrm>
        </p:grpSpPr>
        <p:sp>
          <p:nvSpPr>
            <p:cNvPr id="288" name=""/>
            <p:cNvSpPr/>
            <p:nvPr/>
          </p:nvSpPr>
          <p:spPr>
            <a:xfrm>
              <a:off x="0" y="1295280"/>
              <a:ext cx="8839080" cy="18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8. Use the ratio model                        to estimate a person’s weight on Earth if the person weighs 62 pounds on Mars. </a:t>
              </a:r>
              <a:r>
                <a:rPr b="1" i="1" lang="en-US" sz="2900" spc="-1" strike="noStrike">
                  <a:solidFill>
                    <a:srgbClr val="3333cc"/>
                  </a:solidFill>
                  <a:latin typeface="Times New Roman"/>
                </a:rPr>
                <a:t>                       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9" name=""/>
            <p:cNvGraphicFramePr/>
            <p:nvPr/>
          </p:nvGraphicFramePr>
          <p:xfrm>
            <a:off x="3657600" y="1143000"/>
            <a:ext cx="2057400" cy="1085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57600" y="1143000"/>
                      <a:ext cx="205740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1" name=""/>
          <p:cNvGraphicFramePr/>
          <p:nvPr/>
        </p:nvGraphicFramePr>
        <p:xfrm>
          <a:off x="3952800" y="4603680"/>
          <a:ext cx="571680" cy="520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0" y="4603680"/>
                    <a:ext cx="571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12"/>
          <a:stretch/>
        </p:blipFill>
        <p:spPr>
          <a:xfrm>
            <a:off x="228600" y="3048120"/>
            <a:ext cx="184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a Ratio to Write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105520" y="3657600"/>
          <a:ext cx="274320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657600"/>
                    <a:ext cx="2743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A person who weighs 160 pounds on Earth weighs 139 pounds on Venus.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981080"/>
            <a:ext cx="88390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. Write a model that relates a person’s weight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on Earth to that person’s weight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on Venus. </a:t>
            </a:r>
            <a:r>
              <a:rPr b="1" i="1" lang="en-US" sz="29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449440" y="3270240"/>
          <a:ext cx="18828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9440" y="3270240"/>
                    <a:ext cx="1882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176560" y="4724280"/>
          <a:ext cx="4395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6560" y="4724280"/>
                    <a:ext cx="439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2546280" y="3841920"/>
          <a:ext cx="54144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6280" y="3841920"/>
                    <a:ext cx="541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537000" y="3841920"/>
          <a:ext cx="54288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7000" y="3841920"/>
                    <a:ext cx="542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2438280" y="388620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388620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514600" y="4419720"/>
          <a:ext cx="1055520" cy="13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419720"/>
                    <a:ext cx="1055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819520" y="4495680"/>
          <a:ext cx="923760" cy="52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4495680"/>
                    <a:ext cx="9237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819520" y="5181480"/>
          <a:ext cx="92376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19520" y="5181480"/>
                    <a:ext cx="9237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17"/>
          <a:stretch/>
        </p:blipFill>
        <p:spPr>
          <a:xfrm>
            <a:off x="228600" y="2971800"/>
            <a:ext cx="18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01T11:25:48Z</dcterms:modified>
  <cp:revision>313</cp:revision>
  <dc:subject/>
  <dc:title>No Slide Title</dc:title>
</cp:coreProperties>
</file>